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2.gif" ContentType="image/gif"/>
  <Override PartName="/ppt/media/image13.jpeg" ContentType="image/jpeg"/>
  <Override PartName="/ppt/media/image4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23.gif" ContentType="image/gif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1485-1023-40D3-9991-F65C14B4A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4675-E532-49D1-BB82-B369F5AB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05DE-775D-455D-A26B-9ECF29DEF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4703-8E6A-48A1-B241-DC3458C61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B80C-E2A5-480D-BED0-A10F0A341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0682-F76B-4BD6-BC2A-60FED1FA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FC4E-1FC1-4B6B-9245-BD0DA5B1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E882-689E-4BEC-99DC-5A6DCAED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9142-CE0A-4274-AABF-555DD5B2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14B6-F0EA-4FDC-B0C9-8D2FDC49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AA6B-A184-451C-A422-59B36E8E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0912-A6AE-4512-80C2-DFF33560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3ACB-19BF-4C20-BF11-D38C39B0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8132-095C-4B69-A52A-0A91625D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A3B1-FFFF-43E8-886A-7C8EBF43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5862-E996-40BF-BB71-BCF859983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7CC3-76BF-4A1C-86BF-A5A40D54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6C2E-6D60-4619-B326-0DB17548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E3F9-CBA6-4C8D-BC5F-04843F09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A290-7706-4892-986D-BBE35383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DCCF-09E7-470E-AB1C-BBB0743F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4347-DA88-4F3C-8AEE-58DD9BC3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01DE-4064-464B-ACCA-EB399C3A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398E-78E7-4A2F-9460-961486B3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8454-5FC0-4184-81BD-DF1715D6B3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389F-31DD-49CF-8645-B818A1F9617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6"/>
          <p:cNvSpPr/>
          <p:nvPr/>
        </p:nvSpPr>
        <p:spPr>
          <a:xfrm>
            <a:off x="3635280" y="115920"/>
            <a:ext cx="532944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Я живу на земле Волгоградской 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На бескрайнем просторе степном. 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Город мой он мне кажется сказкой– 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амым тёплым душе уголком. 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Город  мой он  совсем ещё юный – 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За четыреста лишь перешёл. 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То зелёный, то пыльный, то шумный... 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Он – промышленный узел большой. 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Я люблю мощь заводов и строек, 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Блеск фонтанов, бульвары в цвету. 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олгоград мне  особенно дорог: 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Малой Родиной с детства зову.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Теплоходов гудки на рассвете 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На работу торопят людей. 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 орган в старой кирхе в Сарепте 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м мелодией вторит свое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Т. Лавро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2" descr="Новости Волгограда все записи Страница 11 из 52 Новости Волжского"/>
          <p:cNvPicPr/>
          <p:nvPr/>
        </p:nvPicPr>
        <p:blipFill>
          <a:blip r:embed="rId1"/>
          <a:srcRect l="0" t="15274" r="15038" b="5547"/>
          <a:stretch/>
        </p:blipFill>
        <p:spPr>
          <a:xfrm>
            <a:off x="174600" y="404640"/>
            <a:ext cx="3676680" cy="5167440"/>
          </a:xfrm>
          <a:prstGeom prst="rect">
            <a:avLst/>
          </a:prstGeom>
          <a:ln w="0">
            <a:noFill/>
          </a:ln>
        </p:spPr>
      </p:pic>
      <p:pic>
        <p:nvPicPr>
          <p:cNvPr id="143" name="spokojnaya_-_muzyka_bez_slov_(xMusic.me).mp3" descr=""/>
          <p:cNvPicPr/>
          <p:nvPr/>
        </p:nvPicPr>
        <p:blipFill>
          <a:blip r:embed="rId2"/>
          <a:stretch/>
        </p:blipFill>
        <p:spPr>
          <a:xfrm>
            <a:off x="179280" y="613728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4776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6" descr="Горчичное масло станет эксклюзивным брендом Волгограда"/>
          <p:cNvPicPr/>
          <p:nvPr/>
        </p:nvPicPr>
        <p:blipFill>
          <a:blip r:embed="rId1"/>
          <a:stretch/>
        </p:blipFill>
        <p:spPr>
          <a:xfrm>
            <a:off x="179280" y="115920"/>
            <a:ext cx="4032360" cy="28814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Горчичное масло- бренд Волгоградской области - Рамблер-Новости"/>
          <p:cNvPicPr/>
          <p:nvPr/>
        </p:nvPicPr>
        <p:blipFill>
          <a:blip r:embed="rId2"/>
          <a:stretch/>
        </p:blipFill>
        <p:spPr>
          <a:xfrm>
            <a:off x="250920" y="3213000"/>
            <a:ext cx="3960720" cy="3456000"/>
          </a:xfrm>
          <a:prstGeom prst="rect">
            <a:avLst/>
          </a:prstGeom>
          <a:ln w="0">
            <a:noFill/>
          </a:ln>
        </p:spPr>
      </p:pic>
      <p:sp>
        <p:nvSpPr>
          <p:cNvPr id="218" name="Прямоугольник 8"/>
          <p:cNvSpPr/>
          <p:nvPr/>
        </p:nvSpPr>
        <p:spPr>
          <a:xfrm>
            <a:off x="4356000" y="115920"/>
            <a:ext cx="478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же сегодня Волгоград называют горчичной столицей России. Все потому, что наш город является одним из трех мировых центров, имеющих горчичное производ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наменитый завод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«Сарепта»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сторически является национальным лидером в производстве широкой ассортиментной линейки горчицы во всех видах упаковки, а также масла холодного отжим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состав горчичного масла входит большое количество биологически активных веществ, которые ежедневно должны поступать в человеческий организм. Это витамины А, D, Е, К и группа В; фитонциды, фитостеролы, гликозиды, хлорофилл и многое друго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Прямоугольник 9"/>
          <p:cNvSpPr/>
          <p:nvPr/>
        </p:nvSpPr>
        <p:spPr>
          <a:xfrm>
            <a:off x="4356000" y="4292640"/>
            <a:ext cx="4788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едприятия Холдинга производят  широкий ассортимент плодоовощной, грибной и фруктовой продукции: закусочных блюд, маринадов и овощной икры, зеленого горошка и кукурузы, лесных грибов и сочных фруктов, салатов и соус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">
    <p:strips dir="rd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2274840" y="490680"/>
          <a:ext cx="3743280" cy="366480"/>
        </p:xfrm>
        <a:graphic>
          <a:graphicData uri="http://schemas.openxmlformats.org/drawingml/2006/table">
            <a:tbl>
              <a:tblPr/>
              <a:tblGrid>
                <a:gridCol w="308160"/>
                <a:gridCol w="307800"/>
                <a:gridCol w="308160"/>
                <a:gridCol w="307800"/>
                <a:gridCol w="308160"/>
                <a:gridCol w="307800"/>
                <a:gridCol w="308160"/>
                <a:gridCol w="307800"/>
                <a:gridCol w="308160"/>
                <a:gridCol w="363240"/>
                <a:gridCol w="320760"/>
                <a:gridCol w="287280"/>
              </a:tblGrid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4130640" y="139680"/>
          <a:ext cx="298440" cy="3313080"/>
        </p:xfrm>
        <a:graphic>
          <a:graphicData uri="http://schemas.openxmlformats.org/drawingml/2006/table">
            <a:tbl>
              <a:tblPr/>
              <a:tblGrid>
                <a:gridCol w="29844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2278080" y="490680"/>
          <a:ext cx="3743280" cy="366480"/>
        </p:xfrm>
        <a:graphic>
          <a:graphicData uri="http://schemas.openxmlformats.org/drawingml/2006/table">
            <a:tbl>
              <a:tblPr/>
              <a:tblGrid>
                <a:gridCol w="307800"/>
                <a:gridCol w="308160"/>
                <a:gridCol w="307800"/>
                <a:gridCol w="308160"/>
                <a:gridCol w="307800"/>
                <a:gridCol w="308160"/>
                <a:gridCol w="311040"/>
                <a:gridCol w="304920"/>
                <a:gridCol w="307800"/>
                <a:gridCol w="363600"/>
                <a:gridCol w="320760"/>
                <a:gridCol w="287280"/>
              </a:tblGrid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3822840" y="1584360"/>
          <a:ext cx="1847880" cy="365040"/>
        </p:xfrm>
        <a:graphic>
          <a:graphicData uri="http://schemas.openxmlformats.org/drawingml/2006/table">
            <a:tbl>
              <a:tblPr/>
              <a:tblGrid>
                <a:gridCol w="299880"/>
                <a:gridCol w="287280"/>
                <a:gridCol w="336600"/>
                <a:gridCol w="308160"/>
                <a:gridCol w="307800"/>
                <a:gridCol w="308160"/>
              </a:tblGrid>
              <a:tr h="3650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1944720" y="3073320"/>
          <a:ext cx="2998800" cy="366840"/>
        </p:xfrm>
        <a:graphic>
          <a:graphicData uri="http://schemas.openxmlformats.org/drawingml/2006/table">
            <a:tbl>
              <a:tblPr/>
              <a:tblGrid>
                <a:gridCol w="312840"/>
                <a:gridCol w="311040"/>
                <a:gridCol w="312840"/>
                <a:gridCol w="311040"/>
                <a:gridCol w="290520"/>
                <a:gridCol w="293760"/>
                <a:gridCol w="352440"/>
                <a:gridCol w="296640"/>
                <a:gridCol w="51768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2852640" y="2282760"/>
          <a:ext cx="314280" cy="2658960"/>
        </p:xfrm>
        <a:graphic>
          <a:graphicData uri="http://schemas.openxmlformats.org/drawingml/2006/table">
            <a:tbl>
              <a:tblPr/>
              <a:tblGrid>
                <a:gridCol w="3142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2232000" y="2684520"/>
          <a:ext cx="318960" cy="1844640"/>
        </p:xfrm>
        <a:graphic>
          <a:graphicData uri="http://schemas.openxmlformats.org/drawingml/2006/table">
            <a:tbl>
              <a:tblPr/>
              <a:tblGrid>
                <a:gridCol w="3189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354640" y="1576440"/>
          <a:ext cx="325440" cy="2260440"/>
        </p:xfrm>
        <a:graphic>
          <a:graphicData uri="http://schemas.openxmlformats.org/drawingml/2006/table">
            <a:tbl>
              <a:tblPr/>
              <a:tblGrid>
                <a:gridCol w="325440"/>
              </a:tblGrid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5365800" y="2382840"/>
          <a:ext cx="2521080" cy="365040"/>
        </p:xfrm>
        <a:graphic>
          <a:graphicData uri="http://schemas.openxmlformats.org/drawingml/2006/table">
            <a:tbl>
              <a:tblPr/>
              <a:tblGrid>
                <a:gridCol w="304920"/>
                <a:gridCol w="395280"/>
                <a:gridCol w="328320"/>
                <a:gridCol w="374760"/>
                <a:gridCol w="385920"/>
                <a:gridCol w="380880"/>
                <a:gridCol w="351000"/>
              </a:tblGrid>
              <a:tr h="3650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6399360" y="1965240"/>
          <a:ext cx="361800" cy="2251080"/>
        </p:xfrm>
        <a:graphic>
          <a:graphicData uri="http://schemas.openxmlformats.org/drawingml/2006/table">
            <a:tbl>
              <a:tblPr/>
              <a:tblGrid>
                <a:gridCol w="361800"/>
              </a:tblGrid>
              <a:tr h="407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7529400" y="1623960"/>
          <a:ext cx="360360" cy="26002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TextBox 3"/>
          <p:cNvSpPr/>
          <p:nvPr/>
        </p:nvSpPr>
        <p:spPr>
          <a:xfrm>
            <a:off x="214200" y="4786200"/>
            <a:ext cx="4319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)  Какая вода добывается из скважин расположенных на реке Медведица?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Box 13"/>
          <p:cNvSpPr/>
          <p:nvPr/>
        </p:nvSpPr>
        <p:spPr>
          <a:xfrm>
            <a:off x="108000" y="5392800"/>
            <a:ext cx="484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) Какое предприятие в г. Волгограде специализируется на изготовлении конфет, вафель, зефир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138240" y="5921280"/>
            <a:ext cx="431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) Какой завод расположен в КОР и относится к старейшим предприятиям машинострое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Box 15"/>
          <p:cNvSpPr/>
          <p:nvPr/>
        </p:nvSpPr>
        <p:spPr>
          <a:xfrm>
            <a:off x="4627440" y="5072040"/>
            <a:ext cx="451656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)Какой завод является лидером в изготовлении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асла холодного отжим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Box 16"/>
          <p:cNvSpPr/>
          <p:nvPr/>
        </p:nvSpPr>
        <p:spPr>
          <a:xfrm>
            <a:off x="4627440" y="4500720"/>
            <a:ext cx="45165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) Хлебобулочное изделие изготавливаемое на хлебозаводе № 5 из пшеничной муки высшего сорт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Box 17"/>
          <p:cNvSpPr/>
          <p:nvPr/>
        </p:nvSpPr>
        <p:spPr>
          <a:xfrm>
            <a:off x="4629240" y="5568840"/>
            <a:ext cx="451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) Фамилия царицынского купца, который основал кондитерское и пшеничное заведен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Box 18"/>
          <p:cNvSpPr/>
          <p:nvPr/>
        </p:nvSpPr>
        <p:spPr>
          <a:xfrm>
            <a:off x="4627440" y="5929200"/>
            <a:ext cx="451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4) Строительный продукт получаемый 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. Михайловка Волгоградской област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Box 19"/>
          <p:cNvSpPr/>
          <p:nvPr/>
        </p:nvSpPr>
        <p:spPr>
          <a:xfrm>
            <a:off x="4649760" y="6400800"/>
            <a:ext cx="451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5)Какая культура выращивается в Волгоградской области, что делает её одним из трёх мировых центров?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817800" y="1576440"/>
          <a:ext cx="1849680" cy="365040"/>
        </p:xfrm>
        <a:graphic>
          <a:graphicData uri="http://schemas.openxmlformats.org/drawingml/2006/table">
            <a:tbl>
              <a:tblPr/>
              <a:tblGrid>
                <a:gridCol w="308160"/>
                <a:gridCol w="299880"/>
                <a:gridCol w="317520"/>
                <a:gridCol w="308160"/>
                <a:gridCol w="307800"/>
                <a:gridCol w="308160"/>
              </a:tblGrid>
              <a:tr h="3650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1949400" y="3071880"/>
          <a:ext cx="3000600" cy="380880"/>
        </p:xfrm>
        <a:graphic>
          <a:graphicData uri="http://schemas.openxmlformats.org/drawingml/2006/table">
            <a:tbl>
              <a:tblPr/>
              <a:tblGrid>
                <a:gridCol w="312840"/>
                <a:gridCol w="288720"/>
                <a:gridCol w="314640"/>
                <a:gridCol w="333360"/>
                <a:gridCol w="266400"/>
                <a:gridCol w="316080"/>
                <a:gridCol w="360360"/>
                <a:gridCol w="291960"/>
                <a:gridCol w="516240"/>
              </a:tblGrid>
              <a:tr h="380880">
                <a:tc>
                  <a:txBody>
                    <a:bodyPr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5359320" y="2384280"/>
          <a:ext cx="2521080" cy="365400"/>
        </p:xfrm>
        <a:graphic>
          <a:graphicData uri="http://schemas.openxmlformats.org/drawingml/2006/table">
            <a:tbl>
              <a:tblPr/>
              <a:tblGrid>
                <a:gridCol w="304920"/>
                <a:gridCol w="395280"/>
                <a:gridCol w="336600"/>
                <a:gridCol w="366480"/>
                <a:gridCol w="385920"/>
                <a:gridCol w="380880"/>
                <a:gridCol w="351000"/>
              </a:tblGrid>
              <a:tr h="36540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2847960" y="2271600"/>
          <a:ext cx="314280" cy="2659320"/>
        </p:xfrm>
        <a:graphic>
          <a:graphicData uri="http://schemas.openxmlformats.org/drawingml/2006/table">
            <a:tbl>
              <a:tblPr/>
              <a:tblGrid>
                <a:gridCol w="3142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438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2235240" y="2703600"/>
          <a:ext cx="318960" cy="1844640"/>
        </p:xfrm>
        <a:graphic>
          <a:graphicData uri="http://schemas.openxmlformats.org/drawingml/2006/table">
            <a:tbl>
              <a:tblPr/>
              <a:tblGrid>
                <a:gridCol w="3189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5351400" y="1581120"/>
          <a:ext cx="325440" cy="2260800"/>
        </p:xfrm>
        <a:graphic>
          <a:graphicData uri="http://schemas.openxmlformats.org/drawingml/2006/table">
            <a:tbl>
              <a:tblPr/>
              <a:tblGrid>
                <a:gridCol w="325440"/>
              </a:tblGrid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419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6389640" y="1959120"/>
          <a:ext cx="362160" cy="2251080"/>
        </p:xfrm>
        <a:graphic>
          <a:graphicData uri="http://schemas.openxmlformats.org/drawingml/2006/table">
            <a:tbl>
              <a:tblPr/>
              <a:tblGrid>
                <a:gridCol w="362160"/>
              </a:tblGrid>
              <a:tr h="407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7531200" y="1617840"/>
          <a:ext cx="360360" cy="26002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379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a0aff"/>
                    </a:solidFill>
                  </a:tcPr>
                </a:tc>
              </a:tr>
            </a:tbl>
          </a:graphicData>
        </a:graphic>
      </p:graphicFrame>
      <p:sp>
        <p:nvSpPr>
          <p:cNvPr id="247" name="TextBox 14"/>
          <p:cNvSpPr/>
          <p:nvPr/>
        </p:nvSpPr>
        <p:spPr>
          <a:xfrm>
            <a:off x="142920" y="6302520"/>
            <a:ext cx="431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4)Овощ- приставка одного из предприяти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лгоград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Box 3"/>
          <p:cNvSpPr/>
          <p:nvPr/>
        </p:nvSpPr>
        <p:spPr>
          <a:xfrm>
            <a:off x="428760" y="4429080"/>
            <a:ext cx="1643040" cy="398520"/>
          </a:xfrm>
          <a:prstGeom prst="rect">
            <a:avLst/>
          </a:prstGeom>
          <a:solidFill>
            <a:srgbClr val="00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По горизонтали: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Box 16"/>
          <p:cNvSpPr/>
          <p:nvPr/>
        </p:nvSpPr>
        <p:spPr>
          <a:xfrm>
            <a:off x="4714920" y="4214880"/>
            <a:ext cx="1571760" cy="246240"/>
          </a:xfrm>
          <a:prstGeom prst="rect">
            <a:avLst/>
          </a:prstGeom>
          <a:solidFill>
            <a:srgbClr val="00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По вертикали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Box 37"/>
          <p:cNvSpPr/>
          <p:nvPr/>
        </p:nvSpPr>
        <p:spPr>
          <a:xfrm>
            <a:off x="1928880" y="500040"/>
            <a:ext cx="285840" cy="307080"/>
          </a:xfrm>
          <a:prstGeom prst="rect">
            <a:avLst/>
          </a:prstGeom>
          <a:solidFill>
            <a:srgbClr val="00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Box 38"/>
          <p:cNvSpPr/>
          <p:nvPr/>
        </p:nvSpPr>
        <p:spPr>
          <a:xfrm>
            <a:off x="3500280" y="1643040"/>
            <a:ext cx="285840" cy="307080"/>
          </a:xfrm>
          <a:prstGeom prst="rect">
            <a:avLst/>
          </a:prstGeom>
          <a:solidFill>
            <a:srgbClr val="00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Box 39"/>
          <p:cNvSpPr/>
          <p:nvPr/>
        </p:nvSpPr>
        <p:spPr>
          <a:xfrm>
            <a:off x="1571760" y="3071880"/>
            <a:ext cx="285480" cy="307080"/>
          </a:xfrm>
          <a:prstGeom prst="rect">
            <a:avLst/>
          </a:prstGeom>
          <a:solidFill>
            <a:srgbClr val="00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Box 40"/>
          <p:cNvSpPr/>
          <p:nvPr/>
        </p:nvSpPr>
        <p:spPr>
          <a:xfrm>
            <a:off x="5000760" y="2428920"/>
            <a:ext cx="285480" cy="307080"/>
          </a:xfrm>
          <a:prstGeom prst="rect">
            <a:avLst/>
          </a:prstGeom>
          <a:solidFill>
            <a:srgbClr val="00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Box 41"/>
          <p:cNvSpPr/>
          <p:nvPr/>
        </p:nvSpPr>
        <p:spPr>
          <a:xfrm>
            <a:off x="2214720" y="2286000"/>
            <a:ext cx="285480" cy="307080"/>
          </a:xfrm>
          <a:prstGeom prst="rect">
            <a:avLst/>
          </a:prstGeom>
          <a:solidFill>
            <a:srgbClr val="00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Box 42"/>
          <p:cNvSpPr/>
          <p:nvPr/>
        </p:nvSpPr>
        <p:spPr>
          <a:xfrm>
            <a:off x="2857680" y="1928880"/>
            <a:ext cx="285480" cy="307080"/>
          </a:xfrm>
          <a:prstGeom prst="rect">
            <a:avLst/>
          </a:prstGeom>
          <a:solidFill>
            <a:srgbClr val="00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Box 43"/>
          <p:cNvSpPr/>
          <p:nvPr/>
        </p:nvSpPr>
        <p:spPr>
          <a:xfrm>
            <a:off x="5357880" y="1214280"/>
            <a:ext cx="285840" cy="307080"/>
          </a:xfrm>
          <a:prstGeom prst="rect">
            <a:avLst/>
          </a:prstGeom>
          <a:solidFill>
            <a:srgbClr val="00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Box 44"/>
          <p:cNvSpPr/>
          <p:nvPr/>
        </p:nvSpPr>
        <p:spPr>
          <a:xfrm>
            <a:off x="6429240" y="1571760"/>
            <a:ext cx="285840" cy="307080"/>
          </a:xfrm>
          <a:prstGeom prst="rect">
            <a:avLst/>
          </a:prstGeom>
          <a:solidFill>
            <a:srgbClr val="00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TextBox 45"/>
          <p:cNvSpPr/>
          <p:nvPr/>
        </p:nvSpPr>
        <p:spPr>
          <a:xfrm>
            <a:off x="7572240" y="1285920"/>
            <a:ext cx="285840" cy="307080"/>
          </a:xfrm>
          <a:prstGeom prst="rect">
            <a:avLst/>
          </a:prstGeom>
          <a:solidFill>
            <a:srgbClr val="00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">
    <p:wedg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6" descr="Региональные власти проводят &quot;смотры качества&quot; продукц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Фото Волгограда - Пейзажи - фотограф kpok (страница 3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3"/>
          <p:cNvSpPr/>
          <p:nvPr/>
        </p:nvSpPr>
        <p:spPr>
          <a:xfrm>
            <a:off x="0" y="4149720"/>
            <a:ext cx="9144000" cy="2708280"/>
          </a:xfrm>
          <a:prstGeom prst="rect">
            <a:avLst/>
          </a:prstGeom>
          <a:gradFill rotWithShape="0">
            <a:gsLst>
              <a:gs pos="0">
                <a:srgbClr val="0000de"/>
              </a:gs>
              <a:gs pos="100000">
                <a:srgbClr val="000067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12"/>
          <p:cNvSpPr/>
          <p:nvPr/>
        </p:nvSpPr>
        <p:spPr>
          <a:xfrm>
            <a:off x="0" y="1773360"/>
            <a:ext cx="9144000" cy="2520720"/>
          </a:xfrm>
          <a:prstGeom prst="rect">
            <a:avLst/>
          </a:prstGeom>
          <a:gradFill rotWithShape="0">
            <a:gsLst>
              <a:gs pos="0">
                <a:srgbClr val="0000de"/>
              </a:gs>
              <a:gs pos="100000">
                <a:srgbClr val="000067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0" y="0"/>
            <a:ext cx="9144000" cy="2681280"/>
          </a:xfrm>
          <a:prstGeom prst="rect">
            <a:avLst/>
          </a:prstGeom>
          <a:gradFill rotWithShape="0">
            <a:gsLst>
              <a:gs pos="0">
                <a:srgbClr val="0000de"/>
              </a:gs>
              <a:gs pos="100000">
                <a:srgbClr val="000067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655560" y="-874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50760" dir="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250920" y="115920"/>
            <a:ext cx="8642160" cy="39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Georgia"/>
              </a:rPr>
              <a:t>Моменты рефлекс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«Край ты мой любимый, край ты мой родной!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Line 9"/>
          <p:cNvSpPr/>
          <p:nvPr/>
        </p:nvSpPr>
        <p:spPr>
          <a:xfrm flipH="1">
            <a:off x="1258920" y="2349360"/>
            <a:ext cx="1440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10"/>
          <p:cNvSpPr/>
          <p:nvPr/>
        </p:nvSpPr>
        <p:spPr>
          <a:xfrm>
            <a:off x="4500720" y="227664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Line 11"/>
          <p:cNvSpPr/>
          <p:nvPr/>
        </p:nvSpPr>
        <p:spPr>
          <a:xfrm>
            <a:off x="7093080" y="2276640"/>
            <a:ext cx="1008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15"/>
          <p:cNvSpPr/>
          <p:nvPr/>
        </p:nvSpPr>
        <p:spPr>
          <a:xfrm>
            <a:off x="324000" y="292428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 знали до уро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16"/>
          <p:cNvSpPr/>
          <p:nvPr/>
        </p:nvSpPr>
        <p:spPr>
          <a:xfrm>
            <a:off x="3492360" y="2997360"/>
            <a:ext cx="237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 нового узнали на урок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6659640" y="2997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 хотели бы узнать ещ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72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720"/>
                            </p:stCondLst>
                            <p:childTnLst>
                              <p:par>
                                <p:cTn id="4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3720"/>
                            </p:stCondLst>
                            <p:childTnLst>
                              <p:par>
                                <p:cTn id="5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472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72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6720"/>
                            </p:stCondLst>
                            <p:childTnLst>
                              <p:par>
                                <p:cTn id="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5" descr="j0336897"/>
          <p:cNvPicPr/>
          <p:nvPr/>
        </p:nvPicPr>
        <p:blipFill>
          <a:blip r:embed="rId1"/>
          <a:stretch/>
        </p:blipFill>
        <p:spPr>
          <a:xfrm>
            <a:off x="1332000" y="3716280"/>
            <a:ext cx="5761080" cy="2305080"/>
          </a:xfrm>
          <a:prstGeom prst="rect">
            <a:avLst/>
          </a:prstGeom>
          <a:ln w="0">
            <a:noFill/>
          </a:ln>
        </p:spPr>
      </p:pic>
      <p:sp>
        <p:nvSpPr>
          <p:cNvPr id="273" name="WordArt 4"/>
          <p:cNvSpPr txBox="1"/>
          <p:nvPr/>
        </p:nvSpPr>
        <p:spPr>
          <a:xfrm>
            <a:off x="684360" y="549360"/>
            <a:ext cx="813420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1000">
    <p:strips dir="rd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WordArt 1026" descr=""/>
          <p:cNvPicPr/>
          <p:nvPr/>
        </p:nvPicPr>
        <p:blipFill>
          <a:blip r:embed="rId1"/>
          <a:stretch/>
        </p:blipFill>
        <p:spPr>
          <a:xfrm>
            <a:off x="171360" y="176040"/>
            <a:ext cx="8796600" cy="1378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31" descr="C:\Мои документы\НОУ\география\обложка.jpg"/>
          <p:cNvPicPr/>
          <p:nvPr/>
        </p:nvPicPr>
        <p:blipFill>
          <a:blip r:embed="rId2"/>
          <a:stretch/>
        </p:blipFill>
        <p:spPr>
          <a:xfrm>
            <a:off x="1476360" y="1844640"/>
            <a:ext cx="5399280" cy="432108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7"/>
              </a:gs>
              <a:gs pos="100000">
                <a:srgbClr val="0000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1025640"/>
            <a:ext cx="9144000" cy="14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формировать у обучающихся знания об особенностях развития промышленных предприятий Волгоградской обла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314172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530280" indent="-530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аучить обучающихся определять   вид промышленных предприятий, и их особен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0280" indent="-530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бъяснить какую роль играет промышленность Волгограда в жизни люд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0280" indent="-530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ассмотреть уровень и перспективы развития промышленности Волгоградской обла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0280" indent="-530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0280" indent="-530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0280" indent="-530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0280" indent="-530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9" name="Group 9"/>
          <p:cNvGrpSpPr/>
          <p:nvPr/>
        </p:nvGrpSpPr>
        <p:grpSpPr>
          <a:xfrm>
            <a:off x="0" y="260280"/>
            <a:ext cx="9144000" cy="588960"/>
            <a:chOff x="0" y="260280"/>
            <a:chExt cx="9144000" cy="588960"/>
          </a:xfrm>
        </p:grpSpPr>
        <p:sp>
          <p:nvSpPr>
            <p:cNvPr id="150" name="Rectangle 3"/>
            <p:cNvSpPr/>
            <p:nvPr/>
          </p:nvSpPr>
          <p:spPr>
            <a:xfrm>
              <a:off x="0" y="260280"/>
              <a:ext cx="9144000" cy="504720"/>
            </a:xfrm>
            <a:prstGeom prst="rect">
              <a:avLst/>
            </a:prstGeom>
            <a:noFill/>
            <a:ln w="0">
              <a:noFill/>
            </a:ln>
            <a:effectLst>
              <a:outerShdw dist="64600" dir="674838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44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4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Цель урока: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Line 7"/>
            <p:cNvSpPr/>
            <p:nvPr/>
          </p:nvSpPr>
          <p:spPr>
            <a:xfrm>
              <a:off x="2916360" y="836640"/>
              <a:ext cx="3240000" cy="12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Group 10"/>
          <p:cNvGrpSpPr/>
          <p:nvPr/>
        </p:nvGrpSpPr>
        <p:grpSpPr>
          <a:xfrm>
            <a:off x="0" y="2349360"/>
            <a:ext cx="9144000" cy="720720"/>
            <a:chOff x="0" y="2349360"/>
            <a:chExt cx="9144000" cy="720720"/>
          </a:xfrm>
        </p:grpSpPr>
        <p:sp>
          <p:nvSpPr>
            <p:cNvPr id="153" name="Rectangle 6"/>
            <p:cNvSpPr/>
            <p:nvPr/>
          </p:nvSpPr>
          <p:spPr>
            <a:xfrm>
              <a:off x="0" y="2349360"/>
              <a:ext cx="9144000" cy="504720"/>
            </a:xfrm>
            <a:prstGeom prst="rect">
              <a:avLst/>
            </a:prstGeom>
            <a:noFill/>
            <a:ln w="0">
              <a:noFill/>
            </a:ln>
            <a:effectLst>
              <a:outerShdw dist="63360" dir="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1" lang="ru-RU" sz="4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Задачи урока: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Line 8"/>
            <p:cNvSpPr/>
            <p:nvPr/>
          </p:nvSpPr>
          <p:spPr>
            <a:xfrm>
              <a:off x="2843280" y="3070080"/>
              <a:ext cx="3960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trips dir="r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5"/>
          <p:cNvSpPr/>
          <p:nvPr/>
        </p:nvSpPr>
        <p:spPr>
          <a:xfrm>
            <a:off x="-36360" y="4653000"/>
            <a:ext cx="95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2514600" y="4614840"/>
            <a:ext cx="3340080" cy="5205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0" y="5715000"/>
            <a:ext cx="9144000" cy="88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imes New Roman"/>
              </a:rPr>
              <a:t>Критерии оценок: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«5» - без ошибок        «4» - 1,2 ошибки              «3» - 3 ошиб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26"/>
          <p:cNvSpPr/>
          <p:nvPr/>
        </p:nvSpPr>
        <p:spPr>
          <a:xfrm>
            <a:off x="6315120" y="41511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Прямоугольник 5"/>
          <p:cNvSpPr/>
          <p:nvPr/>
        </p:nvSpPr>
        <p:spPr>
          <a:xfrm>
            <a:off x="179280" y="115920"/>
            <a:ext cx="87854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мышленный комплекс Волгограда в основном представлен тяжёлыми  отраслями производства  такими как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.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промышленности работает 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кономически активного насел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мышленное предприятие –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        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                                                                           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.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дукция Волгоградской сторойиндустрии поставляется более чем в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гионов России и Ближнего зарубежь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лгоградская область имеет 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                        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положенные в других регионах стра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142920" y="500040"/>
            <a:ext cx="90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                        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еталлургия 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ашинострое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4000680" y="1143000"/>
            <a:ext cx="15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70 тыся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Box 8"/>
          <p:cNvSpPr/>
          <p:nvPr/>
        </p:nvSpPr>
        <p:spPr>
          <a:xfrm>
            <a:off x="4429080" y="221472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это организация, обладающ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285840" y="2643120"/>
            <a:ext cx="985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Times New Roman"/>
              </a:rPr>
              <a:t>большим числом рабочих и производящая серийную продукцию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Box 10"/>
          <p:cNvSpPr/>
          <p:nvPr/>
        </p:nvSpPr>
        <p:spPr>
          <a:xfrm>
            <a:off x="1071720" y="378612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50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Box 11"/>
          <p:cNvSpPr/>
          <p:nvPr/>
        </p:nvSpPr>
        <p:spPr>
          <a:xfrm>
            <a:off x="142920" y="4500720"/>
            <a:ext cx="90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филиалы и структурн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одраздел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Box 1"/>
          <p:cNvSpPr/>
          <p:nvPr/>
        </p:nvSpPr>
        <p:spPr>
          <a:xfrm>
            <a:off x="571680" y="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Дополните пробелы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7"/>
          <p:cNvSpPr/>
          <p:nvPr/>
        </p:nvSpPr>
        <p:spPr>
          <a:xfrm>
            <a:off x="2556000" y="11592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Угадай  предприят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1034" descr="Официальный сайт администрации Волгограда. Пресс-релиз администрации"/>
          <p:cNvPicPr/>
          <p:nvPr/>
        </p:nvPicPr>
        <p:blipFill>
          <a:blip r:embed="rId1"/>
          <a:stretch/>
        </p:blipFill>
        <p:spPr>
          <a:xfrm>
            <a:off x="179280" y="620640"/>
            <a:ext cx="2880000" cy="2087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36" descr="Завод&quot;Баррикады&quot;"/>
          <p:cNvPicPr/>
          <p:nvPr/>
        </p:nvPicPr>
        <p:blipFill>
          <a:blip r:embed="rId2"/>
          <a:stretch/>
        </p:blipFill>
        <p:spPr>
          <a:xfrm>
            <a:off x="3276720" y="620640"/>
            <a:ext cx="3024000" cy="21607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>
            <a:off x="3203640" y="278136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АО «»Производственное предприятие Баррикады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0" y="2781360"/>
            <a:ext cx="30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АО «Тракторная компания ВГТЗ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6" descr="Производство"/>
          <p:cNvPicPr/>
          <p:nvPr/>
        </p:nvPicPr>
        <p:blipFill>
          <a:blip r:embed="rId3"/>
          <a:stretch/>
        </p:blipFill>
        <p:spPr>
          <a:xfrm>
            <a:off x="6443640" y="620640"/>
            <a:ext cx="2521080" cy="20876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8"/>
          <p:cNvSpPr/>
          <p:nvPr/>
        </p:nvSpPr>
        <p:spPr>
          <a:xfrm>
            <a:off x="6084720" y="2852640"/>
            <a:ext cx="295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ОО «Лукойл- волгограднефтепереработка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8" descr="http://volgograd-times.ru/material_photos/0095/3508/0_medium.jpg"/>
          <p:cNvPicPr/>
          <p:nvPr/>
        </p:nvPicPr>
        <p:blipFill>
          <a:blip r:embed="rId4"/>
          <a:stretch/>
        </p:blipFill>
        <p:spPr>
          <a:xfrm>
            <a:off x="179280" y="3573360"/>
            <a:ext cx="2952720" cy="1871640"/>
          </a:xfrm>
          <a:prstGeom prst="rect">
            <a:avLst/>
          </a:prstGeom>
          <a:ln w="0">
            <a:noFill/>
          </a:ln>
        </p:spPr>
      </p:pic>
      <p:sp>
        <p:nvSpPr>
          <p:cNvPr id="175" name="TextBox 10"/>
          <p:cNvSpPr/>
          <p:nvPr/>
        </p:nvSpPr>
        <p:spPr>
          <a:xfrm>
            <a:off x="179280" y="5516640"/>
            <a:ext cx="30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АО  «Химпром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10" descr="Инфодосье / Организации / Компания Металлургический завод Кр…"/>
          <p:cNvPicPr/>
          <p:nvPr/>
        </p:nvPicPr>
        <p:blipFill>
          <a:blip r:embed="rId5"/>
          <a:stretch/>
        </p:blipFill>
        <p:spPr>
          <a:xfrm>
            <a:off x="3419640" y="3573360"/>
            <a:ext cx="2381040" cy="2016360"/>
          </a:xfrm>
          <a:prstGeom prst="rect">
            <a:avLst/>
          </a:prstGeom>
          <a:ln w="0">
            <a:noFill/>
          </a:ln>
        </p:spPr>
      </p:pic>
      <p:sp>
        <p:nvSpPr>
          <p:cNvPr id="177" name="TextBox 12"/>
          <p:cNvSpPr/>
          <p:nvPr/>
        </p:nvSpPr>
        <p:spPr>
          <a:xfrm>
            <a:off x="3276720" y="558972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О «ВМЗ  Красный октябрь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12" descr="Сухие строительные смеси &quot;Волма&quot; - качество, основанное на м…"/>
          <p:cNvPicPr/>
          <p:nvPr/>
        </p:nvPicPr>
        <p:blipFill>
          <a:blip r:embed="rId6"/>
          <a:stretch/>
        </p:blipFill>
        <p:spPr>
          <a:xfrm>
            <a:off x="6227640" y="3573360"/>
            <a:ext cx="2737080" cy="2087640"/>
          </a:xfrm>
          <a:prstGeom prst="rect">
            <a:avLst/>
          </a:prstGeom>
          <a:ln w="0">
            <a:noFill/>
          </a:ln>
        </p:spPr>
      </p:pic>
      <p:sp>
        <p:nvSpPr>
          <p:cNvPr id="179" name="TextBox 14"/>
          <p:cNvSpPr/>
          <p:nvPr/>
        </p:nvSpPr>
        <p:spPr>
          <a:xfrm>
            <a:off x="6227640" y="5661000"/>
            <a:ext cx="30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ОО  «Волма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">
    <p:strips dir="r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1"/>
          <p:cNvSpPr/>
          <p:nvPr/>
        </p:nvSpPr>
        <p:spPr>
          <a:xfrm>
            <a:off x="2268360" y="0"/>
            <a:ext cx="44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айди ошибку в текст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Box 2"/>
          <p:cNvSpPr/>
          <p:nvPr/>
        </p:nvSpPr>
        <p:spPr>
          <a:xfrm>
            <a:off x="0" y="40464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зникновение промышленности на территории нашего города относится к                                                 , когда в                 появились первые предприятия по производству свечей, кожевенных изделий, лесопильной продукции.                    развитие промышленность получила после реформы 1861 года и с постройкой в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862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оду первой железной дороги                   связавшей Волгу с            . Наличие                  видов разнообразного сырья, рабочей силы, торговых связей со многими экономическими районами послужило предпосылкой к возникновению и развитию здесь промышленности. Характеризуя в целом промышленный комплекс Волгограда можно сделать вывод, что он в основном представлен                    отраслями производства, которые имею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жхозяйственные кооперационные отношения с экономикой других городов и регионов. Период рыночных преобразований явился тяжелым испытанием для многих промышленных предприятий, но в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 спада производства удалос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643040" y="785880"/>
            <a:ext cx="46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60-70 годам XVIII столет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1643040" y="78588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0-50 годам XVIII столет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Box 5"/>
          <p:cNvSpPr/>
          <p:nvPr/>
        </p:nvSpPr>
        <p:spPr>
          <a:xfrm>
            <a:off x="6429240" y="78588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арепт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6429240" y="78588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аратов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Box 7"/>
          <p:cNvSpPr/>
          <p:nvPr/>
        </p:nvSpPr>
        <p:spPr>
          <a:xfrm>
            <a:off x="6072120" y="15001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Быстро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Box 8"/>
          <p:cNvSpPr/>
          <p:nvPr/>
        </p:nvSpPr>
        <p:spPr>
          <a:xfrm>
            <a:off x="6072120" y="150012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дленно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Box 9"/>
          <p:cNvSpPr/>
          <p:nvPr/>
        </p:nvSpPr>
        <p:spPr>
          <a:xfrm>
            <a:off x="6286680" y="228600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Царицын-Калач-на-Дону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Box 10"/>
          <p:cNvSpPr/>
          <p:nvPr/>
        </p:nvSpPr>
        <p:spPr>
          <a:xfrm>
            <a:off x="6286680" y="2286000"/>
            <a:ext cx="30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ратов-Калач-на-Дону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Box 11"/>
          <p:cNvSpPr/>
          <p:nvPr/>
        </p:nvSpPr>
        <p:spPr>
          <a:xfrm>
            <a:off x="1714680" y="4429080"/>
            <a:ext cx="15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тяжелым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Box 12"/>
          <p:cNvSpPr/>
          <p:nvPr/>
        </p:nvSpPr>
        <p:spPr>
          <a:xfrm>
            <a:off x="1857240" y="442908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ёгким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Box 13"/>
          <p:cNvSpPr/>
          <p:nvPr/>
        </p:nvSpPr>
        <p:spPr>
          <a:xfrm>
            <a:off x="214200" y="478620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многочисленн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Box 14"/>
          <p:cNvSpPr/>
          <p:nvPr/>
        </p:nvSpPr>
        <p:spPr>
          <a:xfrm>
            <a:off x="357120" y="478620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лочисленн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Box 15"/>
          <p:cNvSpPr/>
          <p:nvPr/>
        </p:nvSpPr>
        <p:spPr>
          <a:xfrm>
            <a:off x="4643280" y="5857920"/>
            <a:ext cx="16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1999 год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Box 16"/>
          <p:cNvSpPr/>
          <p:nvPr/>
        </p:nvSpPr>
        <p:spPr>
          <a:xfrm>
            <a:off x="2930400" y="623736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зобнови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Box 17"/>
          <p:cNvSpPr/>
          <p:nvPr/>
        </p:nvSpPr>
        <p:spPr>
          <a:xfrm>
            <a:off x="4643280" y="5857920"/>
            <a:ext cx="16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000 год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Box 18"/>
          <p:cNvSpPr/>
          <p:nvPr/>
        </p:nvSpPr>
        <p:spPr>
          <a:xfrm>
            <a:off x="2916360" y="623736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останови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Box 19"/>
          <p:cNvSpPr/>
          <p:nvPr/>
        </p:nvSpPr>
        <p:spPr>
          <a:xfrm>
            <a:off x="2357280" y="257184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Доно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Box 20"/>
          <p:cNvSpPr/>
          <p:nvPr/>
        </p:nvSpPr>
        <p:spPr>
          <a:xfrm>
            <a:off x="3071880" y="-928800"/>
            <a:ext cx="171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Box 21"/>
          <p:cNvSpPr/>
          <p:nvPr/>
        </p:nvSpPr>
        <p:spPr>
          <a:xfrm>
            <a:off x="2500200" y="257184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непро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Box 22"/>
          <p:cNvSpPr/>
          <p:nvPr/>
        </p:nvSpPr>
        <p:spPr>
          <a:xfrm>
            <a:off x="4714920" y="264312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дешевы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Box 23"/>
          <p:cNvSpPr/>
          <p:nvPr/>
        </p:nvSpPr>
        <p:spPr>
          <a:xfrm>
            <a:off x="3286080" y="-114300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дороги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Box 24"/>
          <p:cNvSpPr/>
          <p:nvPr/>
        </p:nvSpPr>
        <p:spPr>
          <a:xfrm>
            <a:off x="4722840" y="25970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роги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">
    <p:strips dir="r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5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5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0" descr="Премиальный набор конфет от КФ &quot;Конфил&quot;"/>
          <p:cNvPicPr/>
          <p:nvPr/>
        </p:nvPicPr>
        <p:blipFill>
          <a:blip r:embed="rId1"/>
          <a:stretch/>
        </p:blipFill>
        <p:spPr>
          <a:xfrm>
            <a:off x="168120" y="260280"/>
            <a:ext cx="4187880" cy="3024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Форум о волнистых попугаях * Просмотр темы - Родной край"/>
          <p:cNvPicPr/>
          <p:nvPr/>
        </p:nvPicPr>
        <p:blipFill>
          <a:blip r:embed="rId2"/>
          <a:stretch/>
        </p:blipFill>
        <p:spPr>
          <a:xfrm>
            <a:off x="179280" y="3645000"/>
            <a:ext cx="4176720" cy="287640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10"/>
          <p:cNvSpPr/>
          <p:nvPr/>
        </p:nvSpPr>
        <p:spPr>
          <a:xfrm>
            <a:off x="4500720" y="333360"/>
            <a:ext cx="449892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«Конфил»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— российская пищевая компания, предприятие кондитерской промышленности. История предприятия началась в 1887г.,царицынский купец В.Ф. Лапшин основал кондитерское и пряничное заведение «Лапшин и Ко» под вывеской «Карамель, монпансье и печенье фабрики Лапшина»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1800" y="-717480"/>
            <a:ext cx="18072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900"/>
            </a:br>
            <a:endParaRPr b="0" lang="en-US" sz="5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15"/>
          <p:cNvSpPr/>
          <p:nvPr/>
        </p:nvSpPr>
        <p:spPr>
          <a:xfrm>
            <a:off x="1800" y="-717480"/>
            <a:ext cx="18072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900"/>
            </a:br>
            <a:endParaRPr b="0" lang="en-US" sz="5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Прямоугольник 15"/>
          <p:cNvSpPr/>
          <p:nvPr/>
        </p:nvSpPr>
        <p:spPr>
          <a:xfrm>
            <a:off x="4500720" y="2997360"/>
            <a:ext cx="4643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настоящее время ЗАОр "НП "Конфил" является крупнейшим в Нижнем Поволжье кондитерским предприятием и входит в число двадцати крупнейших кондитерских фабрик России. В ассортименте предприятия более 300 наименований кондитерских изделий (шоколада, конфет, карамели, зефира, мармелада, вафель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">
    <p:strips dir="rd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3" descr="Наша выпечка - лучшее лекарство от стрессов. (Версия для печати)"/>
          <p:cNvPicPr/>
          <p:nvPr/>
        </p:nvPicPr>
        <p:blipFill>
          <a:blip r:embed="rId1"/>
          <a:stretch/>
        </p:blipFill>
        <p:spPr>
          <a:xfrm>
            <a:off x="179280" y="115920"/>
            <a:ext cx="4608720" cy="30258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5" descr="ПИОНЕР-ТУР Экскурсия для школьников: Хлебозавод/ПИОНЕР-ТУР"/>
          <p:cNvPicPr/>
          <p:nvPr/>
        </p:nvPicPr>
        <p:blipFill>
          <a:blip r:embed="rId2"/>
          <a:stretch/>
        </p:blipFill>
        <p:spPr>
          <a:xfrm>
            <a:off x="179280" y="3429000"/>
            <a:ext cx="4608720" cy="287964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17"/>
          <p:cNvSpPr/>
          <p:nvPr/>
        </p:nvSpPr>
        <p:spPr>
          <a:xfrm>
            <a:off x="4859280" y="7560"/>
            <a:ext cx="41054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большинства жителей Волгограда и Волгоградской области вкус хлеба – это вкус продукции, произведенной на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ОАО «Хлебозавод №5».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кус и качество, которые остаются неизменно высокими на протяжении многих лет.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ая деятельность: производство хлебобулочных и мучных кондитерских изделий . ОАО «Хлебозавод №5» занимает лидирующее положение на рынке Волгограда и области, и на сегодняшний день является новатором во всех видах отраслевой деятельности. На предприятии применяются традиционные рецепты хлебопечения, используется передовой опыт зарубежных коллег.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Хлебозавод №5» занимает лидирующее положение на рынке Волгограда и области, и на сегодняшний день является новатором во всех видах отраслевой деятельности.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">
    <p:strips dir="r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Что мы пьем на самом деле: экспертиза нашей местной воды"/>
          <p:cNvPicPr/>
          <p:nvPr/>
        </p:nvPicPr>
        <p:blipFill>
          <a:blip r:embed="rId1"/>
          <a:stretch/>
        </p:blipFill>
        <p:spPr>
          <a:xfrm>
            <a:off x="168120" y="189000"/>
            <a:ext cx="3035520" cy="3095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Гидрокарбонатно-сульфатно-хлоридную, магниево-натриево-кальц…"/>
          <p:cNvPicPr/>
          <p:nvPr/>
        </p:nvPicPr>
        <p:blipFill>
          <a:blip r:embed="rId2"/>
          <a:stretch/>
        </p:blipFill>
        <p:spPr>
          <a:xfrm>
            <a:off x="179280" y="3500280"/>
            <a:ext cx="2952720" cy="302436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8"/>
          <p:cNvSpPr/>
          <p:nvPr/>
        </p:nvSpPr>
        <p:spPr>
          <a:xfrm>
            <a:off x="3348000" y="115920"/>
            <a:ext cx="56167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изводство минеральной лечебно-столовой воды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"Себряковская"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питьевой воды "Себряковская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неральная вода «Себряковская» добывается в Михайловском районе Волгоградской области более 15 лет, из скважин, расположенных в долине реки Медведица. Каждая скважина имеет свои особенности, влияющие на вкусовые качества воды. Химический состав воды стабилен, и  по бактериологическим показателям она – чистая. Артезианская негазированная вода обогащенная кислородом. Создается на основе  минеральной воды, путем озонирования.  Обработка воды озоном  представляет собой комплексный метод водоподготовки, без каких либо вредных и побочных эффектов. Благодаря обработке воды озоном, изготавливается  очищенная и насыщенная кислородом  питьевая вода, самого высокого качест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">
    <p:strips dir="rd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1T12:07:00Z</dcterms:created>
  <dc:creator>Вася</dc:creator>
  <dc:description/>
  <dc:language>en-US</dc:language>
  <cp:lastModifiedBy>Елена</cp:lastModifiedBy>
  <dcterms:modified xsi:type="dcterms:W3CDTF">2021-05-27T14:14:31Z</dcterms:modified>
  <cp:revision>160</cp:revision>
  <dc:subject/>
  <dc:title>Презентация PowerPoint</dc:title>
</cp:coreProperties>
</file>